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BFB-F14E-44FA-A1BD-242218E1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558-9FA0-43B8-8EFB-2D92AAA9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CB2-E117-4460-A762-C51E9B1A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FE0C-0FDA-4C94-BFED-9826C589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F0D-A48C-4121-8EC1-CE810780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ABC-AE6D-4C15-B9A2-497E0C9A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A69-877A-4A81-9FDD-9D48ABBC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CED-B9DA-44A6-9609-538FA992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CED-0134-42A8-A30F-DE50CB15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115-EBD4-460D-861A-BDF9D49A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420-8FC3-496B-9F9C-FCD9AB7D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0D5-1BAA-479C-9400-2BC820A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S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8BBB-BB42-4D25-A03C-C36BD53DA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10280" y="52848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MOD 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Ca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OD Coori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ear many h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mon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list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desk (ie, answering support requ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“should” b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ings work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ftware is stand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core apps interact directl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this be good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al formal vett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ly, require interoperabilit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chema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on gmod-schema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, no v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focus--genome feature vis &amp;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tive genomics/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web brow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GMOD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50 orgs (using core a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ad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ciu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D-Princ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evelop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nstallation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 clustering tools (including anything that needs to go into Ch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type and phylogeny schema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ow to attract use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-in from funding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 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GMOD side, having good documentation 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acting Evolutionary Biolog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GMOD meeting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what mee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chema modules and apps do we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2:26:49Z</dcterms:created>
  <dc:creator>Scott Cain</dc:creator>
  <dc:description/>
  <dc:language>en-US</dc:language>
  <cp:lastModifiedBy>Scott Cain</cp:lastModifiedBy>
  <cp:lastPrinted>1904-01-01T00:00:00Z</cp:lastPrinted>
  <dcterms:modified xsi:type="dcterms:W3CDTF">2006-01-20T13:29:33Z</dcterms:modified>
  <cp:revision>18</cp:revision>
  <dc:subject/>
  <dc:title>GMOD Administrivia</dc:title>
</cp:coreProperties>
</file>